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A25-A868-472A-BB91-11A14D9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BF8-019F-4E56-9FFD-D14E549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EAB-73A9-461E-8B94-E40D8EC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89D-0E1A-48E2-B5DC-C079DE18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8F8F-3CA3-4F7E-9779-9650FB54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CA6-D4EA-4A63-8BBB-FE4E089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B33-58D3-42D2-A401-DE2A5DB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6E8C-B0CF-4664-B31A-CD28D80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A319-FBD6-4583-8B33-C250D2DA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3FE-24A3-4180-A7AF-9B2FDD7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5800-41DC-4162-9B3A-00402E7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159-11B3-47CE-BA8E-82BD5B4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A74F-E47F-43AB-910B-F7CC4F0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976-3AAC-4F26-ADBD-5DC4EE1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40B-5EB6-40BE-A6BD-BCBB5324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48A-53F6-408E-9733-70E9FAD0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C31-5F80-4A96-8E49-71432DE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E1D2-40BC-4ECA-9FD7-949AECE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883E-0920-4FC2-B887-A72F238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023F-5920-4B9A-86EB-9824A9F2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9AE0-3858-4CCB-ABA4-6861517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76F0-DBD9-4CFD-BEB1-EEE2C15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853-B895-43C7-96FC-48B9620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B67F-90E5-4954-8B69-F4144AF8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EEDF-1232-40AF-82B1-90C5A3A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CBED-5C30-4D8F-BF80-8F19BFC9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D504-21E5-4932-814F-7DE9B01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15BD-F58B-43E6-BA78-A6C8F96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5A48-719B-4E13-8C9A-C8C109DA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1FC2-12EF-49E4-8936-A28FAAE0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AAC3-F7DB-4959-83D2-263ABE62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00C2-782F-43B6-9E51-8011C91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5FB4-85DF-4F43-AC00-C25CCDBD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93C-B422-4DB2-A836-8FC3E51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60DF-432B-4320-8A3F-3FC74801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CE4D-D79C-44E5-8D10-A4A55207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35E0-C139-4BCC-BE04-EFF31A42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DB42-8250-40FA-AA52-EB75AFD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5977-BF44-4FDA-885E-6934B3A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4125-D6D2-4452-A5D0-19CDD0C8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FD56-6F34-4F59-8AB6-0AC6E36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84CA-058F-4C5B-BF9F-5B2A7D8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290A-2665-4B5F-B38A-D668FFB2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03B5-2B6E-40EE-BA01-6A1D2C22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8BD-DFE9-4A71-A9D5-5DA2448C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6313-2D29-4285-B5C9-8EB5C3B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67471-7383-4E65-BB65-7802A1E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AA59-726A-4EB8-97D0-505A4E3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CE98-919B-4FAB-B4F0-4CBA399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0F0F3-B415-4439-BDDA-2A5A386D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790B-4D37-408B-8307-D16B456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1D31-DD64-4B7B-9DE4-120798E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D0BC-81E4-40DE-98D3-7F8B0FD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DC9C-4AF7-4BFF-B5F9-90F1755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3181-ABD5-4F18-A0F4-CCF6A386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17F-6BE3-42E5-BDAB-6D495DF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5D6B-CF3C-43B6-9698-0F0FA136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58AD-1AC8-4A6F-8110-7268659B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5DDA9-BFD6-4599-B341-B738FC0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2D29B-5283-4A28-8309-95D76FC4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6234-D9FD-445E-AC36-0695078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EC4B4-1DDF-402E-BACB-8220678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8870-1C15-4004-9C11-A673B4BA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7AC7-1450-4E06-A209-6BB9A37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9F6F-7547-42F9-8A5E-6D33524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F636-CDEE-43E8-8D09-C25AD4B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A60-E985-43EA-9F88-65216C0B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EF4D-511F-4BB1-BB3F-E201EB1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6230-C712-4FEF-8CFD-6CF49D0C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0B17-B97B-404B-B3A2-73B3BC03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AD8D-99F3-4FE9-9540-57F0BEDA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5FE12-7D1B-4E59-AE71-D6F87A0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4A1C-E207-431C-9102-43F3207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7F58-E67B-4240-AA1D-A69F1448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ABB6-B362-4B10-B9B5-A6EE62F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00875-B021-4F43-8ED0-29A304C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9CDB-6842-4C3C-8E3E-9E5D2C7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E2B-3C40-43D0-9D40-97A5493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6EBC-8BB1-4356-ACA1-B6C2BEA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5CA85-A6BC-4CDE-A14A-58886E2C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D379A-6F61-4C94-951B-DD69A8A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1FCF-890F-4BC4-A670-F9253D3B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57C9-375F-4D10-B94A-764EA435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E809-74D1-47C7-8D4E-F36CBBA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9AD2B-41BE-4AAA-AF56-78D465F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0C61-780B-4502-919C-57987E9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567B-4319-45A0-A627-E5C6A79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FED8-F993-49E0-A6DF-FEB7767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EA2-1EE6-457F-940F-6279D08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C67E-5951-4822-9AF1-996C37B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9188-A768-4B4F-9E0D-1BDCBC3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EED5-0D6A-49B9-8202-02FD333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F230-7EAF-4863-AD67-7A24204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4DDA-D655-47E7-BA1D-7026DEE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B090-D58B-4D35-B8F9-BBD35128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E9C3E-3EC4-44DA-BAD1-FFDE4A04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01B-C063-437F-B901-D0EE59DF3307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C19-8A0D-4004-9262-D3C1A092DA65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5BE-9E88-483D-AD3B-C87C4D87348C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172360" y="630504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3EA0-3314-47EE-A95C-D16A3364434B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8D47-0343-4C0B-90DD-FCAA3E0DDDD8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317080" y="6305040"/>
            <a:ext cx="753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5F9-2E89-42CD-A990-69F6CEEDB052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AB6-AE58-47B2-B67B-F257F58FB1CE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FAAE-CB01-4123-9933-378B7A2F2DA3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B4A8-5F6B-4D29-BC6A-B7C36263776A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43C3-336A-4AA9-BA6E-FB03ABF24235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B53-B718-4347-8EE8-30C7AC65D4CD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43640" y="6305040"/>
            <a:ext cx="82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CB2-F82C-4014-94BD-97BFB24EF70A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A22D-F5C6-4827-8192-02097B6AF92E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E9FF-A05C-465A-92AA-B9F6AB57B4E1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292-2284-4D66-8CAB-D59C37C436F3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F1B3-D208-4DBE-9F94-8E648B9BE899}" type="slidenum">
              <a:rPr b="1" lang="es-ES" sz="24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Taller intercuatrimest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960800" y="3212640"/>
            <a:ext cx="3067200" cy="10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20e04"/>
                </a:solidFill>
                <a:latin typeface="Gill Sans MT"/>
              </a:rPr>
              <a:t>UNIDAD 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8172360" y="6305400"/>
            <a:ext cx="898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5DFA-74AB-41B5-815E-454EC5400024}" type="slidenum">
              <a:rPr b="1" lang="es-ES" sz="20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900000" y="785880"/>
            <a:ext cx="7886880" cy="5019480"/>
          </a:xfrm>
          <a:prstGeom prst="rect">
            <a:avLst/>
          </a:prstGeom>
          <a:ln w="0">
            <a:noFill/>
          </a:ln>
        </p:spPr>
      </p:pic>
      <p:sp>
        <p:nvSpPr>
          <p:cNvPr id="393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B6F-1C4D-4DF7-BF8D-0BC94348E1DA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886880" cy="2206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647640" y="2924280"/>
            <a:ext cx="8388360" cy="2844720"/>
          </a:xfrm>
          <a:prstGeom prst="rect">
            <a:avLst/>
          </a:prstGeom>
          <a:ln w="0">
            <a:noFill/>
          </a:ln>
        </p:spPr>
      </p:pic>
      <p:sp>
        <p:nvSpPr>
          <p:cNvPr id="396" name="6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0B79-D136-4E19-A444-09609DA85121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C85-B088-4C5C-B594-A445E729DA2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2 CuadroTexto"/>
          <p:cNvSpPr/>
          <p:nvPr/>
        </p:nvSpPr>
        <p:spPr>
          <a:xfrm>
            <a:off x="961920" y="76500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lución de ED lineales de orden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n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homogéneas con coeficientes cons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- Generalmente las ED son del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"/>
              <p:cNvSpPr txBox="1"/>
              <p:nvPr/>
            </p:nvSpPr>
            <p:spPr>
              <a:xfrm>
                <a:off x="5210280" y="1557360"/>
                <a:ext cx="13064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5 CuadroTexto"/>
          <p:cNvSpPr/>
          <p:nvPr/>
        </p:nvSpPr>
        <p:spPr>
          <a:xfrm>
            <a:off x="971640" y="25653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onde      ,      y        pueden estar acompañadas por coeficientes constantes (números). Si este es el caso, recuerda que la derivada de orden mayor siempre debe de estar sola (con coeficiente un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- Siempre debe estar igualada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987560" y="2560680"/>
                <a:ext cx="2667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2414520" y="2567160"/>
                <a:ext cx="2286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3024360" y="2603520"/>
                <a:ext cx="190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12 CuadroTexto"/>
          <p:cNvSpPr/>
          <p:nvPr/>
        </p:nvSpPr>
        <p:spPr>
          <a:xfrm>
            <a:off x="928800" y="3786120"/>
            <a:ext cx="78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oluc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Obtener la ecuación característica o ecuación auxiliar (ecuación de segundo grado en términos de    ), empleando las siguientes sustitu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530600" y="4414680"/>
                <a:ext cx="171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Picture 14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2087640" cy="1734840"/>
          </a:xfrm>
          <a:prstGeom prst="rect">
            <a:avLst/>
          </a:prstGeom>
          <a:ln w="0">
            <a:noFill/>
          </a:ln>
        </p:spPr>
      </p:pic>
      <p:sp>
        <p:nvSpPr>
          <p:cNvPr id="413" name="1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A5F1-D807-4D92-B52D-E36069A65173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826920" y="785880"/>
            <a:ext cx="8209080" cy="4786200"/>
          </a:xfrm>
          <a:prstGeom prst="rect">
            <a:avLst/>
          </a:prstGeom>
          <a:ln w="0">
            <a:noFill/>
          </a:ln>
        </p:spPr>
      </p:pic>
      <p:sp>
        <p:nvSpPr>
          <p:cNvPr id="415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1EF-9E71-4A1A-BDDA-A7CDE424092A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888840" y="981000"/>
            <a:ext cx="7786800" cy="385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820800" y="4573440"/>
            <a:ext cx="8072280" cy="1663920"/>
          </a:xfrm>
          <a:prstGeom prst="rect">
            <a:avLst/>
          </a:prstGeom>
          <a:ln w="0">
            <a:noFill/>
          </a:ln>
        </p:spPr>
      </p:pic>
      <p:sp>
        <p:nvSpPr>
          <p:cNvPr id="418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CD0-F671-4599-BF22-730A393C16BC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25560" y="928800"/>
            <a:ext cx="7678800" cy="4286160"/>
          </a:xfrm>
          <a:prstGeom prst="rect">
            <a:avLst/>
          </a:prstGeom>
          <a:ln w="0">
            <a:noFill/>
          </a:ln>
        </p:spPr>
      </p:pic>
      <p:sp>
        <p:nvSpPr>
          <p:cNvPr id="420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AA7A-AC1D-49CB-98E5-5440A8CF3A50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900000" y="811080"/>
            <a:ext cx="7386840" cy="3194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900000" y="4168800"/>
            <a:ext cx="7626600" cy="199692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037-C0D2-4B85-8311-28AEB4FDA51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932040" y="868320"/>
            <a:ext cx="8032680" cy="5945400"/>
          </a:xfrm>
          <a:prstGeom prst="rect">
            <a:avLst/>
          </a:prstGeom>
          <a:ln w="0">
            <a:noFill/>
          </a:ln>
        </p:spPr>
      </p:pic>
      <p:sp>
        <p:nvSpPr>
          <p:cNvPr id="425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651-19AB-4905-BFD4-5E3D71C8859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879480" y="1052640"/>
            <a:ext cx="7693200" cy="4000320"/>
          </a:xfrm>
          <a:prstGeom prst="rect">
            <a:avLst/>
          </a:prstGeom>
          <a:ln w="0">
            <a:noFill/>
          </a:ln>
        </p:spPr>
      </p:pic>
      <p:sp>
        <p:nvSpPr>
          <p:cNvPr id="427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02DD-8457-4C7D-98C5-AD33EC182720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819000" y="588960"/>
            <a:ext cx="8001000" cy="1327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1461960" y="2492280"/>
            <a:ext cx="6926400" cy="3546720"/>
          </a:xfrm>
          <a:prstGeom prst="rect">
            <a:avLst/>
          </a:prstGeom>
          <a:ln w="0">
            <a:noFill/>
          </a:ln>
        </p:spPr>
      </p:pic>
      <p:sp>
        <p:nvSpPr>
          <p:cNvPr id="371" name="4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3359-D16C-4082-8B58-2E0BE8163979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1 CuadroTexto"/>
          <p:cNvSpPr/>
          <p:nvPr/>
        </p:nvSpPr>
        <p:spPr>
          <a:xfrm>
            <a:off x="929520" y="270828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ill Sans MT"/>
              </a:rPr>
              <a:t>UNIDAD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D79-BCE8-4067-A5B8-F5BB7B14EE8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0" y="108900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31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DE6C-805C-4118-A625-F1E5B40F6169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7 Y 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9FD-CC57-4CBB-9D9F-D1BFDBDDC538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844560" y="879480"/>
            <a:ext cx="7831080" cy="1914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8317080" cy="2638440"/>
          </a:xfrm>
          <a:prstGeom prst="rect">
            <a:avLst/>
          </a:prstGeom>
          <a:ln w="0">
            <a:noFill/>
          </a:ln>
        </p:spPr>
      </p:pic>
      <p:sp>
        <p:nvSpPr>
          <p:cNvPr id="436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2EB-FB95-4E10-8354-D19B8B8C0B30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06200" y="765000"/>
            <a:ext cx="8929800" cy="5029200"/>
          </a:xfrm>
          <a:prstGeom prst="rect">
            <a:avLst/>
          </a:prstGeom>
          <a:ln w="0">
            <a:noFill/>
          </a:ln>
        </p:spPr>
      </p:pic>
      <p:sp>
        <p:nvSpPr>
          <p:cNvPr id="438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33A-A684-43FA-A886-FBEBE19201FC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826920" y="1063800"/>
            <a:ext cx="7993080" cy="2149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789120" y="3573360"/>
            <a:ext cx="8175600" cy="1390680"/>
          </a:xfrm>
          <a:prstGeom prst="rect">
            <a:avLst/>
          </a:prstGeom>
          <a:ln w="0">
            <a:noFill/>
          </a:ln>
        </p:spPr>
      </p:pic>
      <p:sp>
        <p:nvSpPr>
          <p:cNvPr id="441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6CF0-47E3-4994-B3B3-D97B00B64293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39640" y="409680"/>
            <a:ext cx="8496360" cy="1482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181160" y="2565360"/>
            <a:ext cx="7711920" cy="1198440"/>
          </a:xfrm>
          <a:prstGeom prst="rect">
            <a:avLst/>
          </a:prstGeom>
          <a:ln w="0">
            <a:noFill/>
          </a:ln>
        </p:spPr>
      </p:pic>
      <p:sp>
        <p:nvSpPr>
          <p:cNvPr id="444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B68-5C6A-41C7-91A5-6CCD08C48157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4000320"/>
          </a:xfrm>
          <a:prstGeom prst="rect">
            <a:avLst/>
          </a:prstGeom>
          <a:ln w="0">
            <a:noFill/>
          </a:ln>
        </p:spPr>
      </p:pic>
      <p:sp>
        <p:nvSpPr>
          <p:cNvPr id="446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BA7-6C66-4243-81BA-B370E14950FE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909280" cy="5905440"/>
          </a:xfrm>
          <a:prstGeom prst="rect">
            <a:avLst/>
          </a:prstGeom>
          <a:ln w="0">
            <a:noFill/>
          </a:ln>
        </p:spPr>
      </p:pic>
      <p:sp>
        <p:nvSpPr>
          <p:cNvPr id="448" name="2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5FC-6C89-4265-B475-8BAC69814126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820800" y="836640"/>
            <a:ext cx="8072280" cy="2097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4923000" cy="2052720"/>
          </a:xfrm>
          <a:prstGeom prst="rect">
            <a:avLst/>
          </a:prstGeom>
          <a:ln w="0">
            <a:noFill/>
          </a:ln>
        </p:spPr>
      </p:pic>
      <p:sp>
        <p:nvSpPr>
          <p:cNvPr id="374" name="4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32A1-6079-4C3D-B778-5535C3886242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20800" y="476280"/>
            <a:ext cx="8072280" cy="1440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214280" y="2479680"/>
            <a:ext cx="6715440" cy="2963880"/>
          </a:xfrm>
          <a:prstGeom prst="rect">
            <a:avLst/>
          </a:prstGeom>
          <a:ln w="0">
            <a:noFill/>
          </a:ln>
        </p:spPr>
      </p:pic>
      <p:sp>
        <p:nvSpPr>
          <p:cNvPr id="377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580-BD1F-471B-BA9A-E10AB0895C99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7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NIDAD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2 Marcador de número de diapositiva"/>
          <p:cNvSpPr/>
          <p:nvPr/>
        </p:nvSpPr>
        <p:spPr>
          <a:xfrm>
            <a:off x="8317080" y="6305400"/>
            <a:ext cx="753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925-E2BA-4B34-A14E-1EAE9197B1DE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947360" cy="4390920"/>
          </a:xfrm>
          <a:prstGeom prst="rect">
            <a:avLst/>
          </a:prstGeom>
          <a:ln w="0">
            <a:noFill/>
          </a:ln>
        </p:spPr>
      </p:pic>
      <p:sp>
        <p:nvSpPr>
          <p:cNvPr id="383" name="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400-0CA8-40C4-9605-513622012C5B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55640" y="554040"/>
            <a:ext cx="8029440" cy="4314960"/>
          </a:xfrm>
          <a:prstGeom prst="rect">
            <a:avLst/>
          </a:prstGeom>
          <a:ln w="0">
            <a:noFill/>
          </a:ln>
        </p:spPr>
      </p:pic>
      <p:sp>
        <p:nvSpPr>
          <p:cNvPr id="385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B45-86E9-4F01-89EF-76263B54BB1D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61840" y="476280"/>
            <a:ext cx="8174160" cy="3379680"/>
          </a:xfrm>
          <a:prstGeom prst="rect">
            <a:avLst/>
          </a:prstGeom>
          <a:ln w="0">
            <a:noFill/>
          </a:ln>
        </p:spPr>
      </p:pic>
      <p:sp>
        <p:nvSpPr>
          <p:cNvPr id="387" name="3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0DC-884C-476E-8A3D-42C282CF67B0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790560" y="844560"/>
            <a:ext cx="7958160" cy="4672080"/>
          </a:xfrm>
          <a:prstGeom prst="rect">
            <a:avLst/>
          </a:prstGeom>
          <a:ln w="0">
            <a:noFill/>
          </a:ln>
        </p:spPr>
      </p:pic>
      <p:sp>
        <p:nvSpPr>
          <p:cNvPr id="389" name="3 Rectángulo"/>
          <p:cNvSpPr/>
          <p:nvPr/>
        </p:nvSpPr>
        <p:spPr>
          <a:xfrm>
            <a:off x="971640" y="3213000"/>
            <a:ext cx="475272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61840" y="3068640"/>
            <a:ext cx="8031240" cy="2787480"/>
          </a:xfrm>
          <a:prstGeom prst="rect">
            <a:avLst/>
          </a:prstGeom>
          <a:ln w="0">
            <a:noFill/>
          </a:ln>
        </p:spPr>
      </p:pic>
      <p:sp>
        <p:nvSpPr>
          <p:cNvPr id="391" name="5 Marcador de número de diapositiva"/>
          <p:cNvSpPr/>
          <p:nvPr/>
        </p:nvSpPr>
        <p:spPr>
          <a:xfrm>
            <a:off x="8244000" y="6305400"/>
            <a:ext cx="82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E9AB-8313-46D2-94B2-F4B29B7AAA7C}" type="slidenum">
              <a:rPr b="1" lang="es-ES" sz="2400" spc="-1" strike="noStrike">
                <a:solidFill>
                  <a:srgbClr val="0d0d0d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8:29Z</dcterms:created>
  <dc:creator>Usuario</dc:creator>
  <dc:description/>
  <dc:language>en-US</dc:language>
  <cp:lastModifiedBy>ARGG</cp:lastModifiedBy>
  <dcterms:modified xsi:type="dcterms:W3CDTF">2012-05-02T22:01:31Z</dcterms:modified>
  <cp:revision>104</cp:revision>
  <dc:subject/>
  <dc:title>Diapositiva 1</dc:title>
</cp:coreProperties>
</file>